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451-F0A7-4A27-B878-D38AA926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5B9-D932-4B19-B1EA-69F831D7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B2D-2315-4FC9-861B-B9BAB112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322-DDF1-40A5-BDAF-78CC8270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F87-3221-4457-BE19-A12460B1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4A6-D2A6-4631-9C94-925B13B0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203-40F6-4DD5-B6B8-6488B66B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61A-7A23-4591-951E-68D84286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4C0-A71E-493D-BA83-433AC499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090-3182-4D99-A9A7-EA49B40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6F4A-D1FE-4B01-857D-EF3E407D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5E6-E083-4F7A-B34E-5C4CD75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9F4B-0E3B-4C38-9347-8DB30BB574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hanacademy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han Academy</a:t>
            </a:r>
            <a:br>
              <a:rPr sz="4400"/>
            </a:br>
            <a:r>
              <a:rPr b="0" lang="en-US" sz="1600" spc="-1" strike="noStrike">
                <a:solidFill>
                  <a:srgbClr val="e3ebf1"/>
                </a:solidFill>
                <a:latin typeface="Arial"/>
              </a:rPr>
              <a:t>A New Approach to Education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tacey Boy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the Academy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nline, non-profit education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 is to “provide a high quality education to anyone, everywhe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s more than 3,400 mini lessons via YouTube on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, Science, Computer Science, Finance &amp; Economics, Humanities, &amp; Test Pr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33200"/>
            <a:ext cx="1098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dea Behind the Academ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r, Salman Khan, was tutoring family member’s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 just used Yahoo’s Doodle notepad but moved to tutorials via You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 that not only family member’s found the information useful, so did oth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2523960"/>
            <a:ext cx="7162920" cy="402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5335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from webs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523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ow: Explaining Heart Dis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umanizing Educ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approach to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tutorials to students the night bef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orksheets and assignments in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khanacademy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an Academy. (n.d.)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han Acade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Retrieved September 18, 2012, from http://www.khanacademy.org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an Academy. (n.d.)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kipedia, the free encycloped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Retrieved September 18, 2012, from http://en.wikipedia.org/wiki/Khan_Acade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8:54:03Z</dcterms:created>
  <dc:creator>Barbara</dc:creator>
  <dc:description/>
  <dc:language>en-US</dc:language>
  <cp:lastModifiedBy>Barbara</cp:lastModifiedBy>
  <dcterms:modified xsi:type="dcterms:W3CDTF">2012-09-18T09:27:07Z</dcterms:modified>
  <cp:revision>2</cp:revision>
  <dc:subject/>
  <dc:title>Khan Academy A New Approach to Education</dc:title>
</cp:coreProperties>
</file>