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948-C076-4873-A501-1B2DE6A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A40-9870-47AF-ADFA-7705E7B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F77-B8B9-4C2C-8032-B443A16B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4CB-4017-4EB9-9A01-3DFA416A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FDD-59C9-4FEC-BC0C-BF277D4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6B4-7931-4B77-AF60-FCAEEFD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8636-37AC-489C-9049-5004739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E74-FE5C-4455-B725-5BCECE9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917-4DF6-437D-9320-32EFE790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F03-0A43-40BB-8E94-262341B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A3F-7384-49E0-BC19-117BD8F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4CF-A30F-4AA7-895C-7D24B5B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CADC-79BB-4FE5-A866-D3E0355E05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hanacademy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han Academy</a:t>
            </a:r>
            <a:br>
              <a:rPr sz="4400"/>
            </a:b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A New Approach to Education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tacey Boy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the Academ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nline, non-profit educa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is to “provide a high quality education to anyone, everywhe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s more than 3,400 mini lessons via YouTube on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, Science, Computer Science, Finance &amp; Economics, Humanities, &amp; Test Pr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098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dea Behind the Academ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, Salman Khan, was tutoring family member’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just used Yahoo’s Doodle notepad but moved to tutorials via You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that not only family member’s found the information useful, so did oth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523960"/>
            <a:ext cx="7162920" cy="402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5335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from web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523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ow: Explaining Heart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umanizing Educ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approach to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tutorials to students the night bef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orksheets and assignments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khanacadem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han Acade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www.khanacademy.org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en.wikipedia.org/wiki/Khan_Acade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8:54:03Z</dcterms:created>
  <dc:creator>Barbara</dc:creator>
  <dc:description/>
  <dc:language>en-US</dc:language>
  <cp:lastModifiedBy>Barbara</cp:lastModifiedBy>
  <dcterms:modified xsi:type="dcterms:W3CDTF">2012-09-18T09:27:07Z</dcterms:modified>
  <cp:revision>2</cp:revision>
  <dc:subject/>
  <dc:title>Khan Academy A New Approach to Education</dc:title>
</cp:coreProperties>
</file>