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4E47-A412-4F3F-A710-80E1801B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E367-6BF3-43FC-B800-7AB46F04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362-C6B9-4808-BD6A-517FEDF9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E84-C4E7-4849-8FC4-F7694818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AE1-5C5B-432F-A012-AFCD20F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DB8-E79D-4779-97AC-83D04C49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215-487D-4661-A240-0C7437F2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AE5-C0B0-4282-A90A-52FD9940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BC1-94C0-48AE-8057-DE0BE67E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071-4414-4A18-9092-4BF443AD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799-1F69-4C1D-B01B-ABC3AA3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7FC-4BCB-4572-BBE2-9AC25B8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2413-B65E-4EBF-B16A-D669309177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hanacademy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han Academy</a:t>
            </a:r>
            <a:br>
              <a:rPr sz="4400"/>
            </a:br>
            <a:r>
              <a:rPr b="0" lang="en-US" sz="1600" spc="-1" strike="noStrike">
                <a:solidFill>
                  <a:srgbClr val="e3ebf1"/>
                </a:solidFill>
                <a:latin typeface="Arial"/>
              </a:rPr>
              <a:t>A New Approach to Education</a:t>
            </a:r>
            <a:endParaRPr b="0" lang="en-US" sz="1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tacey Boyk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at is the Academy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nline, non-profit educa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f is to “provide a high quality education to anyone, everywhe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s more than 3,400 mini lessons via YouTube on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, Science, Computer Science, Finance &amp; Economics, Humanities, &amp; Test Pr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33200"/>
            <a:ext cx="10987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Idea Behind the Academ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er, Salman Khan, was tutoring family member’s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ly just used Yahoo’s Doodle notepad but moved to tutorials via You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that not only family member’s found the information useful, so did other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2523960"/>
            <a:ext cx="7162920" cy="402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5335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from webs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1523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ow: Explaining Heart Dis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umanizing Educat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approach to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tutorials to students the night bef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orksheets and assignments in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khanacadem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n Academy. (n.d.)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han Academ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Retrieved September 18, 2012, from http://www.khanacademy.org/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n Academy. (n.d.).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Retrieved September 18, 2012, from http://en.wikipedia.org/wiki/Khan_Acade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8:54:03Z</dcterms:created>
  <dc:creator>Barbara</dc:creator>
  <dc:description/>
  <dc:language>en-US</dc:language>
  <cp:lastModifiedBy>Barbara</cp:lastModifiedBy>
  <dcterms:modified xsi:type="dcterms:W3CDTF">2012-09-18T09:27:07Z</dcterms:modified>
  <cp:revision>2</cp:revision>
  <dc:subject/>
  <dc:title>Khan Academy A New Approach to Education</dc:title>
</cp:coreProperties>
</file>